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11.wav" ContentType="audio/x-wav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C74-7799-479B-80AA-3F9FC75E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27A-AF5C-40C9-AD1B-9E13F608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8C5-C8B5-4053-94C1-243DF235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9EA-7253-4971-9C6A-996AD9C5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5CB2-77AD-4F80-B949-36D70209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C50E-87A6-4F75-BD33-8F46106B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FEE-C518-4B37-8E25-5C372054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8461-8A57-4570-9206-15F0807B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4E13-87EA-4C0F-81EF-3F10EB00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4244-2EDA-40BD-AEB8-8EA8F9A7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C04C-A78E-4981-B1D2-76A06F70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5F6-4A85-4237-AD3C-BB929451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114D-D934-462B-9D1B-35B38FC9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C02-7849-4CAA-B00E-E1EA4DB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789C-E9EA-49E0-A24E-1EF45C9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438E-496A-4086-AA6A-7C40829F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7384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5920" y="114264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7384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95920" y="3411360"/>
            <a:ext cx="230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9743-13E4-49EB-9540-31FB13F7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133-7AFC-4A5D-81FB-117C7E27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F459-5209-4028-9CB5-90154A3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D97-91CE-4D89-A398-144DC822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d7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D79-B78E-40D7-8DBB-AAD96341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CD1-9508-4457-AFAD-6660C6A0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41136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61F-9518-46F4-9B85-FE88557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142640"/>
            <a:ext cx="3495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411360"/>
            <a:ext cx="7162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76C-5C74-4CEA-8B57-5AF9E0F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d7e"/>
                </a:solidFill>
                <a:latin typeface="Hemi Head 426"/>
              </a:rPr>
              <a:t>Click to edit the title text format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1426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8AA7-E558-44E2-88A2-45572D2624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8AEC-0E02-4417-931E-BD78137C3D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5960" y="533160"/>
            <a:ext cx="4800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Hemi Head 426"/>
              </a:rPr>
              <a:t>Click to edit the title text format</a:t>
            </a:r>
            <a:endParaRPr b="0" lang="en-US" sz="4800" spc="-1" strike="noStrike">
              <a:solidFill>
                <a:srgbClr val="0099cc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5.png"/><Relationship Id="rId6" Type="http://schemas.openxmlformats.org/officeDocument/2006/relationships/audio" Target="../media/11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11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1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1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809880" cy="283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3503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Plant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03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89120" y="0"/>
            <a:ext cx="6003000" cy="2959920"/>
            <a:chOff x="2589120" y="0"/>
            <a:chExt cx="6003000" cy="2959920"/>
          </a:xfrm>
        </p:grpSpPr>
        <p:sp>
          <p:nvSpPr>
            <p:cNvPr id="85" name=""/>
            <p:cNvSpPr/>
            <p:nvPr/>
          </p:nvSpPr>
          <p:spPr>
            <a:xfrm>
              <a:off x="7037280" y="2354400"/>
              <a:ext cx="98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riol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2120" y="253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64000" y="49824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09200" y="825120"/>
              <a:ext cx="904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89120" y="1467360"/>
              <a:ext cx="1232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2200" y="2439720"/>
              <a:ext cx="143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99720" y="1404000"/>
              <a:ext cx="11818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91080" y="95832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25840" y="535680"/>
              <a:ext cx="1031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59560" y="17856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66240" y="0"/>
              <a:ext cx="985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8120" y="3505320"/>
            <a:ext cx="4647960" cy="3157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2209680" y="3200400"/>
            <a:ext cx="6807960" cy="3659400"/>
            <a:chOff x="2209680" y="3200400"/>
            <a:chExt cx="6807960" cy="3659400"/>
          </a:xfrm>
        </p:grpSpPr>
        <p:sp>
          <p:nvSpPr>
            <p:cNvPr id="98" name=""/>
            <p:cNvSpPr/>
            <p:nvPr/>
          </p:nvSpPr>
          <p:spPr>
            <a:xfrm>
              <a:off x="7754040" y="4851360"/>
              <a:ext cx="904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8280" y="4192200"/>
              <a:ext cx="9853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5240" y="361440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10320" y="3200400"/>
              <a:ext cx="1902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34640" y="60541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86840" y="6552720"/>
              <a:ext cx="25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endoplasmic 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6920" y="55551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09680" y="5901840"/>
              <a:ext cx="14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93040" y="650088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2960" y="489924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 wa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3000" y="4453920"/>
              <a:ext cx="10476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81480" y="3962160"/>
              <a:ext cx="108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6480" y="3298680"/>
              <a:ext cx="82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3FB-E774-40F4-A685-65A91A77A4FC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5d7e"/>
                </a:solidFill>
                <a:uFillTx/>
                <a:latin typeface="Comic Sans MS"/>
              </a:rPr>
              <a:t>Ribosomes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18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Make proteins = protein factories of the cel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116640" indent="-11664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Found on rough endoplasmic reticul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Factory"/>
          <p:cNvPicPr/>
          <p:nvPr/>
        </p:nvPicPr>
        <p:blipFill>
          <a:blip r:embed="rId2"/>
          <a:stretch/>
        </p:blipFill>
        <p:spPr>
          <a:xfrm>
            <a:off x="5410080" y="1371600"/>
            <a:ext cx="3505320" cy="1962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791320" y="3581280"/>
            <a:ext cx="2541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260-D974-4F5F-B1FE-CB44ED1DE2FE}" type="slidenum">
              <a:t>10</a:t>
            </a:fld>
          </a:p>
        </p:txBody>
      </p:sp>
    </p:spTree>
  </p:cSld>
  <p:transition>
    <p:fade thruBlk="true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Smooth &amp; Rough Endoplasmic Reticulum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573360" cy="4343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899800"/>
            <a:ext cx="518148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Smooth ER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lacks ribosom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Rough ER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has ribosomes on its surface that make proteins, which are sent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-60120" y="1675440"/>
            <a:ext cx="48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s an internal membran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ransport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D57-3B35-486E-8EF9-AB304ECCE2AA}" type="slidenum">
              <a:t>11</a:t>
            </a:fld>
          </a:p>
        </p:txBody>
      </p:sp>
    </p:spTree>
  </p:cSld>
  <p:transition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379440"/>
            <a:ext cx="71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190760" cy="3073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4500" t="0" r="0" b="6000"/>
          <a:stretch/>
        </p:blipFill>
        <p:spPr>
          <a:xfrm>
            <a:off x="4800600" y="22860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Smooth &amp; Rough Endoplasmic Reticulum (continue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19D-0E21-4D40-8216-D1351D0CDCBE}" type="slidenum">
              <a:t>12</a:t>
            </a:fld>
          </a:p>
        </p:txBody>
      </p:sp>
    </p:spTree>
  </p:cSld>
  <p:transition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Golgi Apparatu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tack of flattened membranes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(like pancakes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ceive &amp;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change proteins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made by rough ER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-attach carbohydrates &amp; lipids       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to protei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id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secre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-transport vesicle pinch off en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3352680" cy="26859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" y="563868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400800" y="50281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ransport vesic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6019920" y="4495320"/>
            <a:ext cx="121896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2FF-D3BA-4160-9CFD-B072CF902CF6}" type="slidenum">
              <a:t>13</a:t>
            </a:fld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3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495680" cy="2624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rcRect l="7500" t="10000" r="4500" b="14000"/>
          <a:stretch/>
        </p:blipFill>
        <p:spPr>
          <a:xfrm>
            <a:off x="2971800" y="3886200"/>
            <a:ext cx="3886200" cy="2637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0"/>
            <a:ext cx="7848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005d7e"/>
                </a:solidFill>
                <a:uFillTx/>
                <a:latin typeface="Comic Sans MS"/>
              </a:rPr>
              <a:t>Golgi Apparatus (continued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117D-B660-45DE-B8C6-B8B89AD52FCA}" type="slidenum">
              <a:t>14</a:t>
            </a:fld>
          </a:p>
        </p:txBody>
      </p:sp>
    </p:spTree>
  </p:cSld>
  <p:transition>
    <p:fade thruBlk="true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Lysosome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Filled with digestive enzym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Breaks down food into useful partic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Also breaks down worn- out cell organelles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16199" r="0" b="0"/>
          <a:stretch/>
        </p:blipFill>
        <p:spPr>
          <a:xfrm>
            <a:off x="5410080" y="2195640"/>
            <a:ext cx="3505320" cy="22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9F0-DE3D-4486-AA88-CA3123DFE9E6}" type="slidenum">
              <a:t>15</a:t>
            </a:fld>
          </a:p>
        </p:txBody>
      </p:sp>
    </p:spTree>
  </p:cSld>
  <p:transition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438280"/>
            <a:ext cx="4952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Site of cellula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respiration: whe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food is burned to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新細明體"/>
              </a:rPr>
              <a:t>get energ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133524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3352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Mitochondria: Cell Powerhouse</a:t>
            </a:r>
            <a:endParaRPr b="0" lang="en-US" sz="4000" spc="-1" strike="noStrike">
              <a:solidFill>
                <a:srgbClr val="005d7e"/>
              </a:solidFill>
              <a:latin typeface="Hemi Head 426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248520" y="0"/>
            <a:ext cx="2895480" cy="203976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952880" y="2438280"/>
            <a:ext cx="4191120" cy="30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CA9-44FE-4EF4-AA56-9B3265C7E755}" type="slidenum">
              <a:t>16</a:t>
            </a:fld>
          </a:p>
        </p:txBody>
      </p:sp>
    </p:spTree>
  </p:cSld>
  <p:transition>
    <p:wipe dir="r"/>
    <p:sndAc>
      <p:stSnd>
        <p:snd r:embed="rId6" name="11.wav"/>
      </p:stSnd>
    </p:sndAc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Vacuole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480" y="1142640"/>
            <a:ext cx="563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Storage spaces within cel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Hold either food or wat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y be absent in some animal cell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04812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1F4-E843-4A5C-9A6C-9FB599C504DC}" type="slidenum">
              <a:t>17</a:t>
            </a:fld>
          </a:p>
        </p:txBody>
      </p:sp>
    </p:spTree>
  </p:cSld>
  <p:transition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4305600" cy="3510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675080" y="1828800"/>
            <a:ext cx="6669360" cy="3295440"/>
            <a:chOff x="1675080" y="1828800"/>
            <a:chExt cx="6669360" cy="3295440"/>
          </a:xfrm>
        </p:grpSpPr>
        <p:sp>
          <p:nvSpPr>
            <p:cNvPr id="113" name=""/>
            <p:cNvSpPr/>
            <p:nvPr/>
          </p:nvSpPr>
          <p:spPr>
            <a:xfrm>
              <a:off x="6753240" y="471276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ntriol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9000" y="213876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ol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7120" y="243900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11440" y="2839680"/>
              <a:ext cx="1031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elop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5080" y="3626280"/>
              <a:ext cx="1232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6040" y="481716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olgi apparatu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54920" y="3548520"/>
              <a:ext cx="1216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ooth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oplasmi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icul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3400" y="3002400"/>
              <a:ext cx="130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4760" y="2485080"/>
              <a:ext cx="103104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08560" y="2047680"/>
              <a:ext cx="982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free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61160" y="1828800"/>
              <a:ext cx="10404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ttached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5d7e"/>
                </a:solidFill>
                <a:uFillTx/>
                <a:latin typeface="Comic Sans MS"/>
              </a:rPr>
              <a:t>Basic Structure of an Animal Cel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720-AA3B-4262-8AC5-2E373EBE9589}" type="slidenum">
              <a:t>2</a:t>
            </a:fld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5d7e"/>
                </a:solidFill>
                <a:uFillTx/>
                <a:latin typeface="Hemi Head 426"/>
              </a:rPr>
              <a:t>Basic Cell Structures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-nucleol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-nuclear envelop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d800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8009f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1905120"/>
            <a:ext cx="4876920" cy="35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251-CD48-4AD9-B73B-76199C8BE6AD}" type="slidenum">
              <a:t>3</a:t>
            </a:fld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447920"/>
            <a:ext cx="4419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Comic Sans MS"/>
                <a:ea typeface="新細明體"/>
              </a:rPr>
              <a:t>Is a thin, flexible barrier around the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  <a:ea typeface="新細明體"/>
              </a:rPr>
              <a:t>Controls what enters and exits a c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新細明體"/>
              </a:rPr>
              <a:t>Made of proteins and 2 layers of lip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Cell Membran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FDB-0C57-4B28-8B32-01C3CB24724B}" type="slidenum">
              <a:t>4</a:t>
            </a:fld>
          </a:p>
        </p:txBody>
      </p:sp>
    </p:spTree>
  </p:cSld>
  <p:transition>
    <p:wipe dir="r"/>
    <p:sndAc>
      <p:stSnd>
        <p:snd r:embed="rId3" name="11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905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新細明體"/>
              </a:rPr>
              <a:t>Controls most cell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Contains DNA (genetic materi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新細明體"/>
              </a:rPr>
              <a:t>-DNA found in chroma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Comic Sans MS"/>
                <a:ea typeface="新細明體"/>
              </a:rPr>
              <a:t>Chromatin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= granular materi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新細明體"/>
              </a:rPr>
              <a:t>seen in nucle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新細明體"/>
              </a:rPr>
              <a:t>Chromatin condenses to form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  <a:ea typeface="新細明體"/>
              </a:rPr>
              <a:t>chromosomes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  <a:ea typeface="新細明體"/>
              </a:rPr>
              <a:t> (control tra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52280"/>
          <a:ext cx="13716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280"/>
                    <a:ext cx="1371600" cy="1371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Nucleus: The Control Center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282240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A5C-9DD1-4743-8506-92B3FBA2E03E}" type="slidenum">
              <a:t>5</a:t>
            </a:fld>
          </a:p>
        </p:txBody>
      </p:sp>
    </p:spTree>
  </p:cSld>
  <p:transition>
    <p:wipe dir="r"/>
    <p:sndAc>
      <p:stSnd>
        <p:snd r:embed="rId5" name="11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5d7e"/>
                </a:solidFill>
                <a:uFillTx/>
                <a:latin typeface="Comic Sans MS"/>
              </a:rPr>
              <a:t>Nucleolus</a:t>
            </a:r>
            <a:endParaRPr b="0" lang="en-US" sz="5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a small dense region in the nucle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Makes ribosomes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, which make protei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162920" y="21906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2560680" cy="2095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867280" y="4191120"/>
            <a:ext cx="2590920" cy="2395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5573880" y="1143000"/>
            <a:ext cx="25398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688-9DC7-4106-A5C0-18A31DFE5CFE}" type="slidenum">
              <a:t>6</a:t>
            </a:fld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Surrounds the nucle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Has nuclear pores that allow material to move in and out of the nucle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buClr>
                <a:srgbClr val="dc2a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84200" indent="-29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457200"/>
          <a:ext cx="19814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1981440" cy="1981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52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Nuclear Envelope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38680" y="16765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A92-3D3B-4D22-A282-5761386C1EA3}" type="slidenum">
              <a:t>7</a:t>
            </a:fld>
          </a:p>
        </p:txBody>
      </p:sp>
    </p:spTree>
  </p:cSld>
  <p:transition>
    <p:wipe dir="r"/>
    <p:sndAc>
      <p:stSnd>
        <p:snd r:embed="rId5" name="11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80880" y="1752480"/>
            <a:ext cx="4800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77920">
              <a:lnSpc>
                <a:spcPct val="100000"/>
              </a:lnSpc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  <a:ea typeface="新細明體"/>
              </a:rPr>
              <a:t>Clear, jelly-like material within cell membra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277920">
              <a:lnSpc>
                <a:spcPct val="100000"/>
              </a:lnSpc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277920"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  <a:ea typeface="新細明體"/>
              </a:rPr>
              <a:t>Contains organelles to carry out certain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Cytoplasm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4533840" cy="33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E69-EF2F-4FBF-B607-80662C606786}" type="slidenum">
              <a:t>8</a:t>
            </a:fld>
          </a:p>
        </p:txBody>
      </p:sp>
    </p:spTree>
  </p:cSld>
  <p:transition>
    <p:wipe dir="r"/>
    <p:sndAc>
      <p:stSnd>
        <p:snd r:embed="rId3" name="11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2840" y="6854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Comic Sans MS"/>
                <a:ea typeface="新細明體"/>
              </a:rPr>
              <a:t>Organelles</a:t>
            </a: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新細明體"/>
              </a:rPr>
              <a:t>Very small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80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omic Sans MS"/>
                <a:ea typeface="新細明體"/>
              </a:rPr>
              <a:t>Can only be observed under a micro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新細明體"/>
              </a:rPr>
              <a:t>Have specific function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484200" indent="-48420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cc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  <a:ea typeface="新細明體"/>
              </a:rPr>
              <a:t>Found throughout cytoplas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63120" y="62485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8305920" y="61722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10800" y="10313"/>
                </a:moveTo>
                <a:lnTo>
                  <a:pt x="13376" y="12924"/>
                </a:ln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lnTo>
                  <a:pt x="17763" y="17276"/>
                </a:lnTo>
                <a:lnTo>
                  <a:pt x="16109" y="17276"/>
                </a:lnTo>
                <a:lnTo>
                  <a:pt x="16109" y="24465"/>
                </a:lnTo>
                <a:lnTo>
                  <a:pt x="5491" y="24465"/>
                </a:lnTo>
                <a:lnTo>
                  <a:pt x="5491" y="17276"/>
                </a:lnTo>
                <a:lnTo>
                  <a:pt x="3837" y="17276"/>
                </a:lnTo>
                <a:close/>
              </a:path>
              <a:path fill="darkenLess" w="21600" h="34552">
                <a:moveTo>
                  <a:pt x="13376" y="12924"/>
                </a:moveTo>
                <a:lnTo>
                  <a:pt x="13376" y="11183"/>
                </a:lnTo>
                <a:lnTo>
                  <a:pt x="15152" y="11183"/>
                </a:lnTo>
                <a:lnTo>
                  <a:pt x="15152" y="14700"/>
                </a:lnTo>
                <a:close/>
              </a:path>
              <a:path fill="darkenLess" w="21600" h="34552">
                <a:moveTo>
                  <a:pt x="9877" y="20775"/>
                </a:moveTo>
                <a:lnTo>
                  <a:pt x="11723" y="20775"/>
                </a:lnTo>
                <a:lnTo>
                  <a:pt x="11723" y="24465"/>
                </a:lnTo>
                <a:lnTo>
                  <a:pt x="16109" y="24465"/>
                </a:lnTo>
                <a:lnTo>
                  <a:pt x="16109" y="17276"/>
                </a:lnTo>
                <a:lnTo>
                  <a:pt x="5491" y="17276"/>
                </a:lnTo>
                <a:lnTo>
                  <a:pt x="5491" y="24465"/>
                </a:lnTo>
                <a:lnTo>
                  <a:pt x="9877" y="24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8001000" y="6172200"/>
            <a:ext cx="304920" cy="6858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685800"/>
              <a:gd name="textAreaBottom" fmla="*/ 666360 h 685800"/>
            </a:gdLst>
            <a:ahLst/>
            <a:rect l="textAreaLeft" t="textAreaTop" r="textAreaRight" b="textAreaBottom"/>
            <a:pathLst>
              <a:path w="21600" h="48549">
                <a:moveTo>
                  <a:pt x="0" y="0"/>
                </a:moveTo>
                <a:lnTo>
                  <a:pt x="21600" y="0"/>
                </a:lnTo>
                <a:lnTo>
                  <a:pt x="21600" y="48549"/>
                </a:lnTo>
                <a:lnTo>
                  <a:pt x="0" y="48549"/>
                </a:lnTo>
                <a:close/>
              </a:path>
              <a:path fill="lightenLess" w="21600" h="485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549">
                <a:moveTo>
                  <a:pt x="21600" y="0"/>
                </a:moveTo>
                <a:lnTo>
                  <a:pt x="21600" y="48549"/>
                </a:lnTo>
                <a:lnTo>
                  <a:pt x="20200" y="47149"/>
                </a:lnTo>
                <a:lnTo>
                  <a:pt x="20200" y="1400"/>
                </a:lnTo>
                <a:close/>
              </a:path>
              <a:path fill="darkenLess" w="21600" h="48549">
                <a:moveTo>
                  <a:pt x="21600" y="48549"/>
                </a:moveTo>
                <a:lnTo>
                  <a:pt x="0" y="48549"/>
                </a:lnTo>
                <a:lnTo>
                  <a:pt x="1400" y="47149"/>
                </a:lnTo>
                <a:lnTo>
                  <a:pt x="20200" y="47149"/>
                </a:lnTo>
                <a:close/>
              </a:path>
              <a:path fill="lighten" w="21600" h="48549">
                <a:moveTo>
                  <a:pt x="0" y="48549"/>
                </a:moveTo>
                <a:lnTo>
                  <a:pt x="0" y="0"/>
                </a:lnTo>
                <a:lnTo>
                  <a:pt x="1400" y="1400"/>
                </a:lnTo>
                <a:lnTo>
                  <a:pt x="1400" y="4714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E56-1435-4B5C-8533-4FD4469B08FF}" type="slidenum">
              <a:t>9</a:t>
            </a:fld>
          </a:p>
        </p:txBody>
      </p:sp>
    </p:spTree>
  </p:cSld>
  <p:transition>
    <p:wipe dir="r"/>
    <p:sndAc>
      <p:stSnd>
        <p:snd r:embed="rId2" name="11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0T01:40:41Z</dcterms:created>
  <dc:creator>Terry</dc:creator>
  <dc:description/>
  <dc:language>en-US</dc:language>
  <cp:lastModifiedBy>Theresa DeLaurentis</cp:lastModifiedBy>
  <dcterms:modified xsi:type="dcterms:W3CDTF">2007-03-06T04:44:52Z</dcterms:modified>
  <cp:revision>95</cp:revision>
  <dc:subject/>
  <dc:title>Chapter 3 The Basic Structure of a Cell</dc:title>
</cp:coreProperties>
</file>